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8A0E7-8E24-43AC-BC46-1BD8A9A9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259A-4C34-4FC1-ADA5-CBE4214B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6EF8C-3915-45E6-996F-691D4FBE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B6567-FD03-4EB8-A053-C4145057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347C-9A6B-4A85-B29A-EC80DB4E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39E9-EC42-47D6-8C4E-39D7EC9E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BBCD-60C4-445F-9C10-CF66311F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A5E1-7393-4D15-A543-C03BA89B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3E01-1A0A-4AEC-A3F5-0FAE2376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67BA-D865-4D9D-AA44-DB6F9B59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3F23-2EE1-441B-A4DA-AB13C117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BB9A4-6DCE-417C-A17D-AF2EAACA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C151-4F5F-4642-82F0-8CBCC3F2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0A64-3853-47B9-A8FF-E6B16EB0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D8E2-0B0D-4B55-B92C-092EAECC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9EFB-B6FC-44F9-A8EC-9EB66281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6C5A-BEA1-4044-A73E-AAA0E82A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A8D96-F9CD-449B-B3C1-62D6955B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E8DC-B28B-410D-A3DD-34116465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C3B53-7DFF-4606-91FF-110C6ABA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94BA5-F262-43EE-86A9-9007942B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02F51-E435-4812-B0DF-530AEC6B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8289B-1723-4F46-8947-FA60B90D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C5849-15EF-44EC-8FFE-27B0B82C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8A4C-7A9C-49B7-9461-92D9DBA72A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FE1F-D4B5-4EEC-B0FE-33E8A74678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http://images.google.ro/imgres?imgurl=http://www.velpitar.ro/images/set/475_3.jpg&amp;imgrefurl=http://www.velpitar.ro/rulade-si-biscuiti/biscuiti-ambalati/&amp;usg=__sa3uOzfuBYUPKt0iGkzthCk6Uvc=&amp;h=768&amp;w=679&amp;sz=324&amp;hl=ro&amp;start=11&amp;tbnid=ZvNkoHR222GsRM:&amp;tbnh=142&amp;tbnw=126&amp;prev=/images%3Fq%3Dbiscuiti%26gbv%3D2%26hl%3Dro%26sa%3DG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ro/imgres?imgurl=http://www.velpitar.ro/images/set/475_3.jpg&amp;imgrefurl=http://www.velpitar.ro/rulade-si-biscuiti/biscuiti-ambalati/&amp;usg=__sa3uOzfuBYUPKt0iGkzthCk6Uvc=&amp;h=768&amp;w=679&amp;sz=324&amp;hl=ro&amp;start=11&amp;tbnid=ZvNkoHR222GsRM:&amp;tbnh=142&amp;tbnw=126&amp;prev=/images%3Fq%3Dbiscuiti%26gbv%3D2%26hl%3Dro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ro/imgres?imgurl=http://www.len.ro/photo/cooking/slides/biscuiti_mos_nicolae.jpg&amp;imgrefurl=http://www.len.ro/2008/12/biscuiti-de-sf-nicolae/&amp;usg=__qSXUm29YtUUtUDJjhBsMLI0ipeI=&amp;h=480&amp;w=360&amp;sz=38&amp;hl=ro&amp;start=59&amp;tbnid=G7Trw-HQWldK8M:&amp;tbnh=129&amp;tbnw=97&amp;prev=/images%3Fq%3Dbiscuiti%26start%3D40%26gbv%3D2%26ndsp%3D20%26hl%3Dro%26sa%3DN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abricarea biscuiți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948360" y="5661000"/>
            <a:ext cx="170496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. Popa Corne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250920" y="115920"/>
            <a:ext cx="59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Domeniul de pregătire de bază: INDUSTRIE ALIMENTAR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Domeniul de pregătire profesională generală: INDUSTRIE ALIMENTAR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Calificarea: Brutar – patiser – preparator produse făino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Modulul II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Fabricarea produselor făino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Clasa a XI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1052280"/>
            <a:ext cx="8373960" cy="43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C1 Clasificarea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ortimentelor de biscuiți.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C2 Prezentarea şi descrierea materiilor prime şi auxiliare necesare 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fabricării biscuiților.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C3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dentificarea utilajului folosit la frământarea aluatului pentru 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 biscuiți.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C4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Precizarea regimului tehnologic al operației de frământ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roduse făino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napolitane"/>
          <p:cNvPicPr/>
          <p:nvPr/>
        </p:nvPicPr>
        <p:blipFill>
          <a:blip r:embed="rId1"/>
          <a:stretch/>
        </p:blipFill>
        <p:spPr>
          <a:xfrm>
            <a:off x="3059280" y="2205000"/>
            <a:ext cx="2089080" cy="1511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piscoturi"/>
          <p:cNvPicPr/>
          <p:nvPr/>
        </p:nvPicPr>
        <p:blipFill>
          <a:blip r:embed="rId2"/>
          <a:stretch/>
        </p:blipFill>
        <p:spPr>
          <a:xfrm>
            <a:off x="6659640" y="2924280"/>
            <a:ext cx="2117520" cy="183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napo"/>
          <p:cNvPicPr/>
          <p:nvPr/>
        </p:nvPicPr>
        <p:blipFill>
          <a:blip r:embed="rId3"/>
          <a:stretch/>
        </p:blipFill>
        <p:spPr>
          <a:xfrm>
            <a:off x="250920" y="1773360"/>
            <a:ext cx="1727280" cy="1511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spritati"/>
          <p:cNvPicPr/>
          <p:nvPr/>
        </p:nvPicPr>
        <p:blipFill>
          <a:blip r:embed="rId4"/>
          <a:stretch/>
        </p:blipFill>
        <p:spPr>
          <a:xfrm>
            <a:off x="1908000" y="4149720"/>
            <a:ext cx="2379960" cy="1811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turta dulce"/>
          <p:cNvPicPr/>
          <p:nvPr/>
        </p:nvPicPr>
        <p:blipFill>
          <a:blip r:embed="rId5"/>
          <a:stretch/>
        </p:blipFill>
        <p:spPr>
          <a:xfrm>
            <a:off x="2700360" y="765000"/>
            <a:ext cx="1339920" cy="1208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blaturi"/>
          <p:cNvPicPr/>
          <p:nvPr/>
        </p:nvPicPr>
        <p:blipFill>
          <a:blip r:embed="rId6"/>
          <a:stretch/>
        </p:blipFill>
        <p:spPr>
          <a:xfrm>
            <a:off x="5148360" y="549360"/>
            <a:ext cx="1684080" cy="1512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prajituri"/>
          <p:cNvPicPr/>
          <p:nvPr/>
        </p:nvPicPr>
        <p:blipFill>
          <a:blip r:embed="rId7"/>
          <a:stretch/>
        </p:blipFill>
        <p:spPr>
          <a:xfrm>
            <a:off x="7020000" y="1268280"/>
            <a:ext cx="1728720" cy="1440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475_3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5300640"/>
            <a:ext cx="1908000" cy="1352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CAOF89GX"/>
          <p:cNvPicPr/>
          <p:nvPr/>
        </p:nvPicPr>
        <p:blipFill>
          <a:blip r:embed="rId10"/>
          <a:stretch/>
        </p:blipFill>
        <p:spPr>
          <a:xfrm>
            <a:off x="4932360" y="4653000"/>
            <a:ext cx="1800360" cy="1270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CAKVMB6E"/>
          <p:cNvPicPr/>
          <p:nvPr/>
        </p:nvPicPr>
        <p:blipFill>
          <a:blip r:embed="rId11"/>
          <a:stretch/>
        </p:blipFill>
        <p:spPr>
          <a:xfrm>
            <a:off x="6443640" y="5300640"/>
            <a:ext cx="17827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cuiţii sunt produse făinoase dulci, cu o durată îndelungată de conservare, obţinuţi prin coacerea unui aluat afânat preparat din: făină, apă, zahăr, grăsimi, ouă, miere, glucoză, lapte, arome, afânători chimici şi biochimici şi diverse alte adaosuri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475_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860640"/>
            <a:ext cx="1871640" cy="194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biscuiti_mos_nicola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93080" y="4941720"/>
            <a:ext cx="1655640" cy="1440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p_dos_ripieni"/>
          <p:cNvPicPr/>
          <p:nvPr/>
        </p:nvPicPr>
        <p:blipFill>
          <a:blip r:embed="rId5"/>
          <a:stretch/>
        </p:blipFill>
        <p:spPr>
          <a:xfrm>
            <a:off x="6156360" y="549360"/>
            <a:ext cx="2303280" cy="1535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205121_1234102502"/>
          <p:cNvPicPr/>
          <p:nvPr/>
        </p:nvPicPr>
        <p:blipFill>
          <a:blip r:embed="rId6"/>
          <a:stretch/>
        </p:blipFill>
        <p:spPr>
          <a:xfrm>
            <a:off x="4140360" y="4292640"/>
            <a:ext cx="165564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lasificarea sortimentelor de biscuiţ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după compoziţia produsului şi modul de prepa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scuiţi glutenoş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scuiţi zaharoş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scuiţi crack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scuiţi umpluţ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biscuiti umpluţ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după modul de finisare pentru livr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scuiţi în vrac, livraţi în cutii mari de carton sau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m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scuiţi ambalaţi în porţii de 25 – 500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77360" y="2999880"/>
            <a:ext cx="792972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după utilitatea alimentară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cuiţi obişnuiţi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cuiţi aperitiv (au o condimentare accentuat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cuiţi desert (sunt ma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lci şi aromaţ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cuiţi diete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Materii prime şi auxiliare folosite la fabricarea biscuiţi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tru fabricarea biscuiţilor sunt necesare o serie de materii prime şi materiale care au următoarelor funcţii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urse de substanţe nutritive (glucide, lipide, proteine, vitamine, enzime etc.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ateriile prime şi auxiliare au rolul de a imprima produsului finit o serie de caracteristici senzoriale, cum sunt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oma, culoarea, structura produsului, starea suprafeţei etc.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mbalajele au rolul de a proteja produsul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Materii prime şi auxiliare folosite : făina de grâu, grăsimi alimentare, materii zaharoase,ouă, lapte ,arome, coloranţi, afânători chimici şi biochimic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Utilaje folosite pentru frământarea aluat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scan0015"/>
          <p:cNvPicPr/>
          <p:nvPr/>
        </p:nvPicPr>
        <p:blipFill>
          <a:blip r:embed="rId1"/>
          <a:stretch/>
        </p:blipFill>
        <p:spPr>
          <a:xfrm>
            <a:off x="477720" y="2152800"/>
            <a:ext cx="4025880" cy="29048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4572000" y="2492280"/>
            <a:ext cx="42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Frământător cu braţe în formă de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Părţi compon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1-cuv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2-  fundul cuv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3-  capac rabatab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4-  braţe de frămăntare sub formă de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5-  electro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egimul tehnologic al operaţiei de frâmă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2192400"/>
          <a:ext cx="8229600" cy="3537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16000"/>
                <a:gridCol w="2098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ul de alua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p de frământare (min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 aluatului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◦C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iditatea aluatului ( %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at gluteno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-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at  zaha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-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at afânat biochi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-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- 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5:52:04Z</dcterms:created>
  <dc:creator>x</dc:creator>
  <dc:description/>
  <dc:language>en-US</dc:language>
  <cp:lastModifiedBy>user</cp:lastModifiedBy>
  <dcterms:modified xsi:type="dcterms:W3CDTF">2018-05-28T20:06:41Z</dcterms:modified>
  <cp:revision>14</cp:revision>
  <dc:subject/>
  <dc:title>Prepararea aluatului pentru biscuiţi </dc:title>
</cp:coreProperties>
</file>